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88E3-F645-49D1-AB8F-42381F9D3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7A1C-1758-412A-8937-FEAF8618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2A8-E001-433B-9655-34247F28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7CFF-36F6-415B-8543-03B4ECB6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8236-F340-4ADA-B92B-58AE0D86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EB43-1E58-4A98-AE9B-A86E910C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F126-6DC8-4AF5-86D6-4B2C3F2E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7F6D-894E-4B8E-944F-AC88293F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EA1E-2F9D-4C2B-A168-1AFA70CD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3C35-AE8B-400B-9A6E-6335EEC4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79C2-2931-4C21-8973-06946011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2000-1DCA-4AC7-9A80-774FDAAE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E842-87B6-4E54-BE29-626949A7F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adalyn Sp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 -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msstate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80880" y="16002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of wisdom and the right way to 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msphil.jpg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land nearly surrounded by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msfav.jpg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1599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tween Athens and Spar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mswar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0880" y="1600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ms.gif"/>
          <p:cNvPicPr/>
          <p:nvPr/>
        </p:nvPicPr>
        <p:blipFill>
          <a:blip r:embed="rId1"/>
          <a:stretch/>
        </p:blipFill>
        <p:spPr>
          <a:xfrm>
            <a:off x="0" y="3105000"/>
            <a:ext cx="91440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880" y="16002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eltered place along a coastl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mszsssss.jpg"/>
          <p:cNvPicPr/>
          <p:nvPr/>
        </p:nvPicPr>
        <p:blipFill>
          <a:blip r:embed="rId1"/>
          <a:stretch/>
        </p:blipFill>
        <p:spPr>
          <a:xfrm>
            <a:off x="0" y="2262240"/>
            <a:ext cx="91440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www.greece-athens.com/gallery_images/56.jpg"/>
          <p:cNvPicPr/>
          <p:nvPr/>
        </p:nvPicPr>
        <p:blipFill>
          <a:blip r:embed="rId1"/>
          <a:srcRect l="0" t="0" r="0" b="23196"/>
          <a:stretch/>
        </p:blipFill>
        <p:spPr>
          <a:xfrm>
            <a:off x="0" y="2112840"/>
            <a:ext cx="91440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sgreece.bmp"/>
          <p:cNvPicPr/>
          <p:nvPr/>
        </p:nvPicPr>
        <p:blipFill>
          <a:blip r:embed="rId1"/>
          <a:stretch/>
        </p:blipFill>
        <p:spPr>
          <a:xfrm>
            <a:off x="0" y="2381400"/>
            <a:ext cx="91440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880" y="15998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63360" y="-906480"/>
            <a:ext cx="2409840" cy="18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sassembly.bmp"/>
          <p:cNvPicPr/>
          <p:nvPr/>
        </p:nvPicPr>
        <p:blipFill>
          <a:blip r:embed="rId1"/>
          <a:stretch/>
        </p:blipFill>
        <p:spPr>
          <a:xfrm>
            <a:off x="0" y="2865600"/>
            <a:ext cx="914400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16002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msperson.bmp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who lived apart from Greece but keep economic ties with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mscolony.png"/>
          <p:cNvPicPr/>
          <p:nvPr/>
        </p:nvPicPr>
        <p:blipFill>
          <a:blip r:embed="rId1"/>
          <a:stretch/>
        </p:blipFill>
        <p:spPr>
          <a:xfrm>
            <a:off x="0" y="2666880"/>
            <a:ext cx="91630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3520" y="16002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msdemoc..jpg"/>
          <p:cNvPicPr/>
          <p:nvPr/>
        </p:nvPicPr>
        <p:blipFill>
          <a:blip r:embed="rId1"/>
          <a:stretch/>
        </p:blipFill>
        <p:spPr>
          <a:xfrm>
            <a:off x="0" y="2616120"/>
            <a:ext cx="914400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msjury.gif"/>
          <p:cNvPicPr/>
          <p:nvPr/>
        </p:nvPicPr>
        <p:blipFill>
          <a:blip r:embed="rId1"/>
          <a:stretch/>
        </p:blipFill>
        <p:spPr>
          <a:xfrm>
            <a:off x="65160" y="2743200"/>
            <a:ext cx="9078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 headed by one rul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msmon.jpg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2T00:48:09Z</dcterms:modified>
  <cp:revision>96</cp:revision>
  <dc:subject/>
  <dc:title>Ancient Greece</dc:title>
</cp:coreProperties>
</file>